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18C-E1DF-4A64-8DC9-296B6C59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6AB-E503-4FC2-8B13-FADAF7F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7C9-4D07-44A8-B5E7-08394E5F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29-4EB6-470C-989D-9BA895D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6F1-6D37-43E6-A84A-5CD7956C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F29-2EBD-4FE4-BCDE-81E5391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41E-D798-44C8-9586-CD5440C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CFB-8E30-4012-8AD8-E41D709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F25-8584-448A-82E5-10E1919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124-4D1F-46AF-A980-A272D0D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3F8-8A9F-4A20-ABF1-0B9ABFA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C9B-298C-46C1-BD54-5BC4781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6A517-A2AE-4274-98ED-358FAAF0A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AB689-9576-4E6A-AC04-F5E3E5E32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ave 3"/>
          <p:cNvSpPr/>
          <p:nvPr/>
        </p:nvSpPr>
        <p:spPr>
          <a:xfrm rot="20946000">
            <a:off x="105840" y="240840"/>
            <a:ext cx="2689560" cy="1382760"/>
          </a:xfrm>
          <a:custGeom>
            <a:avLst/>
            <a:gdLst>
              <a:gd name="textAreaLeft" fmla="*/ 0 w 2689560"/>
              <a:gd name="textAreaRight" fmla="*/ 2689920 w 2689560"/>
              <a:gd name="textAreaTop" fmla="*/ 345600 h 1382760"/>
              <a:gd name="textAreaBottom" fmla="*/ 103716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Do 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27080" y="2090880"/>
            <a:ext cx="74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Does living in the United States make you hap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do you like? What would you chan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55680" y="430200"/>
            <a:ext cx="386532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rker Felt"/>
                <a:ea typeface="Marker Felt"/>
              </a:rPr>
              <a:t>Key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96880" y="1941480"/>
            <a:ext cx="7620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the different forms of government around the world and what are there key differenc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some of the pros and cons of those forms of governm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85640" y="522360"/>
            <a:ext cx="3156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Reading: Denmark “happiest country in the world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Brainstorm: What are the characteristics of a happy countr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164120" y="81000"/>
            <a:ext cx="4779720" cy="6361200"/>
          </a:xfrm>
          <a:prstGeom prst="rect">
            <a:avLst/>
          </a:prstGeom>
          <a:ln w="0">
            <a:noFill/>
          </a:ln>
        </p:spPr>
      </p:pic>
      <p:cxnSp>
        <p:nvCxnSpPr>
          <p:cNvPr id="47" name="Straight Arrow Connector 4"/>
          <p:cNvCxnSpPr/>
          <p:nvPr/>
        </p:nvCxnSpPr>
        <p:spPr>
          <a:xfrm>
            <a:off x="3641760" y="784080"/>
            <a:ext cx="2542320" cy="1867680"/>
          </a:xfrm>
          <a:prstGeom prst="straightConnector1">
            <a:avLst/>
          </a:prstGeom>
          <a:ln w="604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72960" y="187200"/>
            <a:ext cx="83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Forms of Government Research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71640" y="108252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nce you have your form of governmen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ook in the textbook Government Alive pages 24-30 for a more detailed description of your form of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ad the sample country profile for your type of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reate a poster that explains the Main ideas of this form of government that you will use to teach the rest of the class abou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3:24:17Z</dcterms:created>
  <dc:creator>Teacher</dc:creator>
  <dc:description/>
  <dc:language>en-US</dc:language>
  <cp:lastModifiedBy>Teacher</cp:lastModifiedBy>
  <dcterms:modified xsi:type="dcterms:W3CDTF">2009-09-29T00:52:54Z</dcterms:modified>
  <cp:revision>1</cp:revision>
  <dc:subject/>
  <dc:title>Slide 1</dc:title>
</cp:coreProperties>
</file>